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CDFB-B6DB-4F2E-ABF8-5CCF773A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1C552-FDEF-4DEB-8415-CA460BE4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F0E7-E1F2-4355-B406-7BC45BDE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006D0-5B43-49B8-A8D2-AA4CF10F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ADE0-12B3-4F81-9940-53ACC557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6D19-972F-47E2-B86A-A7921BC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95E9-5375-4FDA-AD48-9A043FC2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D256-49A8-4D7B-A5AD-592D3F1B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A523-658F-4E1B-8E48-70DC8E0B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291-0995-4636-B742-8C3E45BC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6239-72D9-44D0-804E-12DC817F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D098-3DDA-4115-930C-6B84D9E7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1B0B-5F7F-46B5-8661-87164DD6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7BA7-3D4E-4B66-896E-C99CF001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8703-FE82-4096-ADFF-83CDF32A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47B-3CAE-46B7-9DA1-C2082BDE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066D-024A-4724-A299-3623C86E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19E1F-4059-4BFF-A251-BAF18FE6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4668-1DD4-4DCD-8D43-B6F9B15F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C1FA-9F5E-48E8-98BA-0C0031C2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1544-38FC-43D8-8FED-E243D29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3868-C6A1-401D-9CE3-3BD954D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7A530-305B-49E0-89BF-86958DC1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D6C9B-90E9-4F1E-9292-B7C11C42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01E3-B5D8-4632-9E6E-4769DF0F3D9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DA57-D82C-417F-B8CC-C8F9758A818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esd/reserve/images/snakes3.jpg&amp;imgrefurl=http://cakerockstheparty.wordpress.com/category/mur-der/&amp;h=541&amp;w=864&amp;sz=110&amp;hl=en&amp;start=5&amp;tbnid=ZEQ7Vpq6lORQTM:&amp;tbnh=91&amp;tbnw=145&amp;prev=/images%3Fq%3Dsnake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apstadt.org/images/images-12/snakes-schlangen/snakes-schlangen-3g.jpg&amp;imgrefurl=http://www.kapstadt.org/en/south-african-pictures/south-africa-animals/land-animals/snakes/&amp;h=1082&amp;w=1200&amp;sz=121&amp;hl=en&amp;start=20&amp;tbnid=3-j7Ce34-GcwfM:&amp;tbnh=135&amp;tbnw=150&amp;prev=/images%3Fq%3Dsnakes%26gbv%3D2%26hl%3D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static.howstuffworks.com/gif/snake-venom.gif&amp;imgrefurl=http://science.howstuffworks.com/snake4.htm&amp;h=370&amp;w=400&amp;sz=30&amp;hl=en&amp;start=37&amp;tbnid=NS9VIEi_Z_hOSM:&amp;tbnh=115&amp;tbnw=124&amp;prev=/images%3Fq%3Dsnakes%26start%3D20%26gbv%3D2%26ndsp%3D20%26hl%3Den%26sa%3D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s.org/wnet/nature/reptiles/images/wallpaper/snakes_small.jpg&amp;imgrefurl=http://www.pbs.org/wnet/nature/reptiles/snakes.html&amp;h=600&amp;w=800&amp;sz=218&amp;hl=en&amp;start=42&amp;tbnid=Zix4uUOsv-_j1M:&amp;tbnh=107&amp;tbnw=143&amp;prev=/images%3Fq%3Dsnakes%26start%3D4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yosemite.ca.us/library/reptiles/images/thumbnail/snakes_40.jpg&amp;imgrefurl=http://www.yosemite.ca.us/library/reptiles/snakes.html&amp;h=433&amp;w=650&amp;sz=64&amp;hl=en&amp;start=74&amp;tbnid=LCMi_pt2XwDLqM:&amp;tbnh=91&amp;tbnw=137&amp;prev=/images%3Fq%3Dsnakes%26start%3D60%26gbv%3D2%26ndsp%3D20%26hl%3Den%26sa%3DN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Snak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OLYVIA VICK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1523880"/>
            <a:ext cx="2590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 you like snakes? Well you can find out  more about them here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1800" y="3429000"/>
            <a:ext cx="3121200" cy="31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ome snakes can hurt people.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can use their fangs to hurt  other anim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2387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nakes are very long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 can  grow up to 38 ft long.  The longest  snake  is an Anaco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nakes are colorful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are many colors like brown, yellow, green, white, and bl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822840"/>
            <a:ext cx="2514600" cy="2263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176640"/>
            <a:ext cx="31240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is is what snakes eat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kes eat rodents, birds, frogs, deer, and rept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581280"/>
            <a:ext cx="2743200" cy="1981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3733920"/>
            <a:ext cx="30574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 hope you had fun learning about  snakes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9880" y="3122640"/>
            <a:ext cx="2295720" cy="22874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1905120" cy="22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8:52Z</dcterms:modified>
  <cp:revision>5</cp:revision>
  <dc:subject/>
  <dc:title>Animal Name</dc:title>
</cp:coreProperties>
</file>